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E87D-A7D8-4C92-BD10-4A82702EA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2BD2-9618-42DC-A32A-B09ACFD4F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2585-A629-4904-990B-C29F5AFB8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6FED-4385-49FE-80EB-70347FCD0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9C6F-D452-42A6-A15D-E9D09FDD2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96A4-DA3E-49D6-9300-5B67CBBFB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3007-C898-4DCC-9F72-BB1811EDE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54B0-9615-43CE-94EE-A38CF7AF8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571F-74EE-4671-8E06-36D22AFEC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2D61-4F07-419C-B278-07828ECD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D183-B2C4-47FE-AC77-06F21888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81A0-9F56-4456-AC7A-716BF967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8E0CE5-6639-4272-8119-52F5171DC6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A3E0BF-6E4E-401F-9584-9291901DEF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youtube.com/watch?v=4rpfakOg5GM" TargetMode="External"/><Relationship Id="rId3" Type="http://schemas.openxmlformats.org/officeDocument/2006/relationships/hyperlink" Target="http://www.youtube.com/watch?v=q4DtOhe2LfQ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s://www.youtube.com/watch?v=i3NeMVBcXXU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elcome </a:t>
            </a:r>
            <a:r>
              <a:rPr b="1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Bienvenidos </a:t>
            </a:r>
            <a:r>
              <a:rPr b="1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List 5 things you use water for in your daily lif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What would life be like if you didn’t have clean water to do these things? (2 sentenc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 If you had to choose between clean water and clean air, which would you choose and why? (2 sentenc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 Do you think you drink the same water as the dinosaurs did?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Lista 5 cosas que usa agua en su vid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¿Qué sería la vida si no tiene agua limpia para hacer estas cosas? (2 fras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 Si tuviera que elegir entre el agua limpio o el aire limpio, ¿cuál elegiría y por qué? (2 fras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ip around the world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Quality and Air Quality Issues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55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 trip around the globe…pollution, environmental issues, climate change…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Viewing guide = your ticket out the door!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1) First stop: Ecuador Indigenous tribes against Texaco oi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youtube.com/watch?v=4rpfakOg5GM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2) Second Stop: China- Worst polluted city in the wor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youtube.com/watch?v=q4DtOhe2LfQ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(start at :56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3) Third Stop: Antarctica climate change polar bear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Calibri"/>
              </a:rPr>
              <a:t>http://www.youtube.com/watch?v=O_HyqPZdN5s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4) Fourth Stop: North Carolina – traffic pollution and ozon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Calibri"/>
              </a:rPr>
              <a:t>http://www.youtube.com/watch?v=7VqhaP-OoR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et’s learn more about pollution!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) Air pollution – graphic organiz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http://www.brainpop.com/science/ourfragileenvironment/airpollution/activity/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) Water pollution – graphic organiz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http://www.brainpop.com/science/ourfragileenvironment/waterpollution/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d now…what can we d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http://www.brainpop.com/science/ourfragileenvironment/humansandtheenvironment/activity/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xit Ticket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Where does the water cycle happ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 What is evapor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In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condens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here does the water condens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Provide 2 examples of precipit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 What provides energy to the water cycl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254160" y="1386000"/>
            <a:ext cx="8889840" cy="5003640"/>
          </a:xfrm>
          <a:prstGeom prst="rect">
            <a:avLst/>
          </a:prstGeom>
          <a:ln w="0">
            <a:noFill/>
          </a:ln>
        </p:spPr>
      </p:pic>
      <p:sp>
        <p:nvSpPr>
          <p:cNvPr id="75" name="TextBox 4"/>
          <p:cNvSpPr/>
          <p:nvPr/>
        </p:nvSpPr>
        <p:spPr>
          <a:xfrm>
            <a:off x="968400" y="284040"/>
            <a:ext cx="7184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wesome Science of the Day! Lake Hiller  - Austral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39760" y="1600200"/>
            <a:ext cx="8664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 ca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explain the explain the Greenhouse Eff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 ca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 the steps of the water cyc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 ca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how the atmosphere keeps the earth warm and keeps the water cycling throug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re you drinking the same water a dinosaur drank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2"/>
          <a:stretch/>
        </p:blipFill>
        <p:spPr>
          <a:xfrm>
            <a:off x="692280" y="1417680"/>
            <a:ext cx="7759440" cy="45259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4"/>
          <p:cNvSpPr/>
          <p:nvPr/>
        </p:nvSpPr>
        <p:spPr>
          <a:xfrm>
            <a:off x="692280" y="5943600"/>
            <a:ext cx="799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 is about the same amount of water on earth now that there was when the dinosaurs roamed our pla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Water Cy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10960" y="1417680"/>
            <a:ext cx="8933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he Water cycl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 continuous cycle that provides life on Earth with fresh and clean wat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917640" y="2622600"/>
            <a:ext cx="725328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water cycle and you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1782720"/>
            <a:ext cx="3400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ody: 50-75%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lood: 83%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rain: 75%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ones: 25 %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 an average day, we breath out about 8.5 ounces of water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3400560" y="1600200"/>
            <a:ext cx="528624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193760" y="1417680"/>
            <a:ext cx="6370560" cy="27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2 billion people in the world do not have access to clean wat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milies walk 3-4 miles every day to get clean wat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2"/>
          <a:stretch/>
        </p:blipFill>
        <p:spPr>
          <a:xfrm>
            <a:off x="698400" y="3603600"/>
            <a:ext cx="3998880" cy="2652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3"/>
          <a:stretch/>
        </p:blipFill>
        <p:spPr>
          <a:xfrm>
            <a:off x="4697280" y="3222720"/>
            <a:ext cx="4429080" cy="3319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ter Cycle Refresh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599840"/>
            <a:ext cx="8229600" cy="36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s://www.youtube.com/watch?v=iohKd5FWZO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use and identify the steps on your guided no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ontinuous Water Cycle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llenge: Pause and identify the steps without the words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914400" y="6310440"/>
            <a:ext cx="626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www.youtube.com/watch?v=0_c0ZzZfC8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ter Cycle R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s://www.youtube.com/watch?v=i3NeMVBcXX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6T00:35:35Z</dcterms:created>
  <dc:creator>Illana Livstrom</dc:creator>
  <dc:description/>
  <dc:language>en-US</dc:language>
  <cp:lastModifiedBy>Illana Livstrom</cp:lastModifiedBy>
  <dcterms:modified xsi:type="dcterms:W3CDTF">2014-10-15T21:12:09Z</dcterms:modified>
  <cp:revision>17</cp:revision>
  <dc:subject/>
  <dc:title>Slide 1</dc:title>
</cp:coreProperties>
</file>